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574D-81B7-4491-BF62-A8DA429B29D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A7A-425D-4862-BA43-BB3C63397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266-153E-4532-8EAE-C7F961F74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D55-7602-4171-AA53-BEDF097B4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B91D-0001-4441-B564-6DE9B6D69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BBA0-9E5A-4F3F-8938-9AC5CB71D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CEFA-D691-4DD8-B198-F058A1269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CF6-8A5E-4DD2-A737-5646BDC90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B52D-F7F7-4F70-A9E3-E79096BDA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70B9-9D7D-4FD6-82D5-073CDBB51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C1C-9035-4CBB-B5BE-540635BE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947-3C53-4A6D-B700-D53C21C8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A14-ABA5-4BFB-9EB2-A00777CD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6A0-C2F9-4F41-9D61-155E79A3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0EE1-AE41-4AA5-889D-AC7ABF53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689D-237D-4B4B-82E2-FF337FD5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71C5-FAB9-4057-A88A-396A1A2A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9924-2A1B-4A51-8208-B9B372FD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F7CB-FF03-42C0-8F7B-711198D2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C24B-02C3-4B2F-8799-E4E69A2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CC92-E897-42EE-A8E9-27B0135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638-766A-40E4-AD31-77220755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0B1D-97F3-45EF-9296-B5DA960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A8B-86C2-44A2-B808-390B206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443F-2A04-4F9B-9CCA-E98B49CC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CD6F-E5C7-4D91-8529-76D7FA45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BBE9-5248-4462-AC2D-211270CB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C3B1F-AD83-4BD9-A902-F16A0B72F5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2DDAB-2FEB-4F63-94B4-082EDB69F6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F51C9-9B2A-4B75-8B3B-4A896053AB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ECFF2-FBA0-4AD5-AA5C-8465BE5917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A7FC2-A1A4-4CF1-93F2-007646596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380-B903-4D5C-9814-D3D65B27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73CE4-6F40-4E6A-8096-3646F57B1E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03CA8-4152-4BDC-9F72-E3515C3BD8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23C52-67B4-4F49-A370-DCB797F5C8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4F4DDD-10C8-4C39-8643-302B2BFE32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89EBD-8FBC-4CD2-BBC3-244893451E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6C56F-9E62-4FDC-A86D-FADEDB8AEE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B517A-70FF-408A-B34F-5692637D1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854-9B22-4B9D-B982-C6601198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60D-F68A-47C7-9CEC-EE111E8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3C5-9C71-400B-8162-8F5692C9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6AC-2497-411E-8BE3-C03EC15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48F-A5E1-4C60-8E3F-4FC4BDC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1B6-358C-43A5-BBA4-B1758CC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43B-A78F-4066-BA61-1109E25D23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9560-4420-46B9-8304-E4FC386A7F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65C-9C3D-4742-8D90-41631DF5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Évaluation macroéconomique et cadre de gestion des risque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3BE-7430-4CCD-A8C3-4542A4CA58A6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En outre, un déficit budgétaire élevé peut entraîner 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e inflation élevée (notamment en cas de dominance fiscale forçant la banque centrale à "faire tourner la planche à billets" pour financer le déficit budgétair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e réduction des investissements privés quand les emprunts de l'État évincent le secteur privé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e augmentation de la vulnérabilité externe en cas d'emprunt étrange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F11-C577-4C55-87EF-96512351A0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La crise financière mondiale a montré que la santé du secteur financier d'un pays a de profondes implications pour sa propre économie et pour les autr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La solidité financière est cruciale pour l'absorption des chocs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 secteur bancaire fragile est susceptible 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(i) de réduire l'efficacité de la politique monétaire à cause de la faiblesse des canaux de transmission au secteur réel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0582-A3F2-488D-A6AC-6D0256C6CC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(ii) de propager et d'amplifier les chocs, au lieu d'en faciliter l'absorption par l'économi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p.ex. en entravant la reprise du fait de l'incapacité à prêter à des secteurs importants pour le redressement économiqu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p.ex. en mettant en péril la soutenabilité de la dette publique en cas de besoin de recapitalisation des institutions financière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D6D-BD28-4ADF-BC79-06F0F74D6D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(iii) de compliquer les réactions politiques aux chocs et aux déséquilibr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.ex. en cas de déséquilibres de la balance des paiements, la dévaluation peut être retardée par crainte de l'impact sur le secteur bancaire (à court de devises étrangèr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.ex. en cas d'inflation, l'assainissement de la politique monétaire peut être retardé par crainte d'une hausse des prêts non performants (PNP) qui dégraderait le bilan des ban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5FE-1CF1-4C5E-9B81-B4F0539DD2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Un fort taux d'endettement privé peut mettre en péril la stabilité macroéconomiqu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 endettement privé élevé et croissant peut être le signe d’un modèle de croissance non durable (basé sur une augmentation excessive de l’endettement du secteur privé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D4D1-B301-4FD2-B270-29067B656F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Qu’est ce que la stabilité macroéconomique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- Détec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A721-B34C-44C8-9BE5-84B3C61DD7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heck list du solde des transactions courantes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Solde des paiements courants : Déficit ou excédent ? Raison du déficit ? (Investissements élevés ? Faible taux d'épargne 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position des exportations (diversification des produits des exportations ; destination des exportation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et évolution du taux de change réel (le pays a-t-il perdu de la compétitivité 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A241-84BD-47DE-9141-DADAB4F1EC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heck list du solde des transactions courantes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s envois de fonds :  ces envois son-ils menacés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es subventions publiques : ces subventions sont-elles menacées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6788-D07E-4637-9E9E-BF6053C1B0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66680" y="98100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Check list du compte financier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Volume et composition des flux de capitaux (court terme / long term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s flux de capitaux de court terme 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Quelle en est la volatilité ?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Sont-ils menacés ? (par exemple en cas de variation du taux d'intérêt mondial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Est-ce que les flux de portefeuille des derniers trimestres coïncident avec une importante appréciation du marché des actions 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Est-ce que les banques seraient en mesure de refinancer leur dette à court terme en devises étrangères 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D21-9561-4C8B-A256-983C7596C1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Liste de contrôle de la soutenabilité de la dette extérieure et du stock des réserves de change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La dette extérieure est-elle soutenable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s flux de capitaux de court terme : quel est le montant des réserves de change disponibles en cas d'arrêt soudain des flux de capitaux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335E-E0B4-4996-80D0-E702E414A5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Qu’est ce que la stabilité macro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Identifica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6D8-B579-4D9C-824B-FC39AE9B7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heck list du budge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Taille du déficit budgétaire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imaire (avant le paiement des intérê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vant les subven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Revenus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(en % du PIB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(problème s'ils sont trop faible – p.ex. inférieur à 15% dans les pays pauvr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inancement du défici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inancement par la banque centrale 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utre financement intérieur ? (Risque d'éviction des investissements et de l'emprunt du secteur privé ?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inancement extérieur ? (à un taux concessionnel ?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269-23CF-4153-AEE8-79190F75E4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Finances publiqu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iste de contrôle de la dette publique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Quel est le taux 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Est-ce viable 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Est-ce viable en cas de tension 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Risques pour la dette publique (passifs éventuels) 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Perspectives économiques des entreprises d'État (besoin de recapitalisation ou d'importants subsides 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Risques de besoin de recapitalisation du secteur bancaire ? (voir par après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DFBC-AD22-4E72-9093-291959721B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Finances publiqu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Verdana"/>
              </a:rPr>
              <a:t>Liste de contrôle de la politique monétaire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Inflation passée, inflation future attendu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supérieure à 5% 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Indépendance et crédibilité de la banque central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Niveau du taux de crédit privé / PIB et évolution récente de ce taux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Large écart entre les taux de change official et officieux (marché noir) (par rapport au dollar ou à l'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Signe de “dollarisation” (part des dépôts en devises étrangères supérieure à 15-20 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5168-2C08-4AF3-B56F-BE045B97A5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Politique monétaire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iste de contrôle du secteur financier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Évaluation générale du PESF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Évolution récente des indicateurs de stabilité financièr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le cours 3 abordera plus en détail le secteur financier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F13-C187-4055-985F-5D2EC6A704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tabilité du secteur financi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Source d'information pour l'identification des </a:t>
            </a:r>
            <a:r>
              <a:rPr b="1" lang="fr-FR" sz="2400" spc="-1" strike="noStrike" u="sng">
                <a:solidFill>
                  <a:srgbClr val="0f5494"/>
                </a:solidFill>
                <a:uFillTx/>
                <a:latin typeface="Verdana"/>
              </a:rPr>
              <a:t>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Politiques macroéconomiques et secteur financi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Rapport Article IV du FMI (ou révisions du FMI pour les pays sous programme du FM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Documents du PESF du FMI et indicateurs de solidité financiè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outenabilité de la det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Évaluation de la soutenabilité de la dette par le FMI et la BM (pour la dette publique et la dette extérieur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Vulnérabilité et chocs exogèn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Rapports Article IV du FMI (notamment la matrice d'évaluation des risqu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ource d'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4D54-CCB6-4C97-AB7F-978517CB5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Stabilité macro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Détec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5D5-04FA-415D-B4EA-D7E5E3AFE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1125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euille de calcul Excel (1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3 fichiers : Questionnaire - Registre des risques - Profil des ris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emarque importante 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Feuille de calcul Excel” ne veut pas dire qu'il s'agit uniquement de chiffres (ni même principalement de chiffre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cessus de remplissage de la feuille de calcul augmente la probabilité que la plupart des risques potentiels soient examinés et compri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cessus débouche sur une recommandation concernant l'appui budgétaire par l'UE dans le pay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A686-C2CA-44D4-805E-5A933859E4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euille de calcul Excel (2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Questionnaire : se concentre sur les risques de bas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44 questions au total, dont </a:t>
            </a: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7 sur les risques macroéconomiqu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our chaque question, il fau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évaluer le niveau du risque (faible – modéré – substantiel – élevé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onner une justification du niveau choisi et une description de la nature exacte du risq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La plupart des réponses </a:t>
            </a:r>
            <a:r>
              <a:rPr b="0" lang="fr-FR" sz="2000" spc="-1" strike="noStrike" u="sng">
                <a:solidFill>
                  <a:srgbClr val="0f5494"/>
                </a:solidFill>
                <a:uFillTx/>
                <a:latin typeface="Verdana"/>
              </a:rPr>
              <a:t>ne sont pas évident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our la partie numérique, le niveau de risque est la moyenne par dimensions (14) avec une marge pour les ajustements ad hoc (relevé ou abaissé d'un cran) selon votre ju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BFC3-5AE6-4255-B51A-3EEAE278B1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euille de calcul Excel (3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registre des risques se concentre sur 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niveau moyen des risques pour les 14 dimens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Une moyenne mathématique : à partir du questionnai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Une brève déclaration écrit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'évolution des risques au fil du temps pour chaque catégorie (automa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mesures d'atténuation pour chaque catégorie (brève 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2DB-A3EE-4433-8597-CE854D47F1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Feuille de calcul Excel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fil de risque 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 niveau moyen des risques pour les 5 catégories, la moyenne générale et les tendances (automa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Recommandation générale 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“Que devrait faire l'UE concernant l'appui budgétaire dans ce pays ?” (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isques majeurs et risque (ou avantages) de la non intervention par l'UE (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incipales mesures d'atténuation (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7520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7520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A9C-76BF-485D-9E84-9852068130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'appui budgétaire est une modalité d'aide. Il implique le transfert de ressources financières au Trésor national d'un pays partenai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cessus qui mène à l'appui budgétaire implique 4 évaluations (pertinence et crédibilité) par la Commission des éléments suivants 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litiques publ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Cadre macro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Gestion des finances publ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Transparence et lisibilité du processus budgétai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Vue d'ensem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537D-6F19-409A-805A-ED7721D54D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6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-4680" y="2205000"/>
            <a:ext cx="9067680" cy="3888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isque général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E2A-A59E-41B2-83D0-B440EEC944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d624"/>
                </a:solidFill>
                <a:latin typeface="Verdana"/>
              </a:rPr>
              <a:t>Merci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617-C343-4AD3-8E25-EC37924D9AB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Prat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u moyen des informations du FMI, rédigez une courte fiche sur le pays, soit pour la Tunisie, soit pour le Ghana, et complétez le fichier Excel du CGR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 ce faire, commencez par utiliser la liste de contrôle ci-dessus et identifiez les risques pertinents pour le pays. Ensuite, indiquez si les autorités du pays sont conscientes des risques et prennent des mesures pour les réduire/atténuer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cours de la troisième journée sera consacré aux indicateurs de solidité financière. Votre évaluation sera ajustée dans l'après-midi de la 3e journée pour prendre en compte la stabilité financièr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57280" indent="-214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57280" indent="-214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180B-075D-41A7-9D03-B4BB3F5C73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Vue d'ensem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cadre d'évaluation des risques aide à anticiper, surveiller et réagir aux évolutions politiques ou économiques du pays. 5 catégories de risque sont prises en considér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isques polit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isques liés au développ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isques de la gestion des finances publ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rruption et fraud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a matérialisation d'un quelconque de ces risques est susceptible de réduire significativement l'efficacité de l'appui budgétaire, sauf si le pays partenaire prend des mesures d'atténuation suffisant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16BF-AC2B-4F00-9E05-4811A1F182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Qu'est-ce que la stabilité macroéconomique 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étec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D7B-FAA1-495C-9416-901993EF91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74680" y="1125360"/>
            <a:ext cx="88567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Éléments essentiels de la stabilité macroéconomique 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Balance des paiements soutenable (équilibre extern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Inflation basse et stable et faible taux de chômage (équilibre intern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outenabilité de la dette publique (équilibre intern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olidité du système financie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Endettement privé soutenable (entreprises et ménage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108-0D59-446F-9F7D-EB60527A8A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0520" y="98100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Il est difficile de maintenir la croissance économique sans soutenabilité de la balance des paie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Généralement, une crise de balance des paiements perturbe les importations et les flux de capitaux, ce qui pèse sur l’activité et réduit la croissance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504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63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ée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variation de PIB réel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que 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ésie 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,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quie 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e 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E5DE-6645-4BB3-BBB1-8BE5231104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 : FMI.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Perspectives de l'économie mondial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septembre 2006, octobre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Verdana"/>
              </a:rPr>
              <a:t>Il est difficile d'atteindre la croissance sans stabilité des prix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Un taux d'inflation élevé décourage l'épargne et les investissements étrangers, perturbe les prix relatifs, encourage les activités financières dispendieuses, la spéculation, la dollarisation et la fuite des capitaux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La déflation (inflation négative) décourage la consommation et les investissements (si les taux d'intérêt réels sont positifs) et retarde les ajustements des prix relatifs (à cause des rigidités nominal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9847-C8F7-4354-A90B-BF963F1F3B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Une dette publique non soutenable peut menacer la stabilité macroéconomique et la croissance 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e dette publique élevée 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eut réduire la capacité du gouvernement à mettre en place des politiques fiscales contra-cycliques lorsque celle-ci sont nécessai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eut faire paniquer les investisseurs et ainsi occasionner une crise de la dette publique (taux d'intérêt élevés et incapacité à refinancer la dette à court term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1243-CBD2-4D5F-AB72-CC79C05626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5-09-07T12:28:47Z</dcterms:modified>
  <cp:revision>237</cp:revision>
  <dc:subject/>
  <dc:title>Slide 1</dc:title>
</cp:coreProperties>
</file>